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0864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30864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234D-E5C7-41FB-8FB4-C3EE975B3540}"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086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848720" cy="548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22:</a:t>
            </a:r>
            <a:r>
              <a:rPr b="0" lang="en-US" sz="3600" spc="-1" strike="noStrike">
                <a:solidFill>
                  <a:srgbClr val="333399"/>
                </a:solidFill>
                <a:latin typeface="Tahoma"/>
              </a:rPr>
              <a:t>  Evaluating a Research Report</a:t>
            </a:r>
            <a:endParaRPr b="0" lang="en-US" sz="3600" spc="-1" strike="noStrike">
              <a:solidFill>
                <a:srgbClr val="333399"/>
              </a:solidFill>
              <a:latin typeface="Tahoma"/>
            </a:endParaRPr>
          </a:p>
        </p:txBody>
      </p:sp>
      <p:sp>
        <p:nvSpPr>
          <p:cNvPr id="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ach of the major sections and subsections of a research report, identify the criteria used in determining its adequa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ach type of research, identify criteria used to determine the adequacy of a study representing that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63"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ppropriate descriptive statistics presented?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tests of significance appropriate, given the hypotheses and design of the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very hypothesis addressed?</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ssumptions of analyses met by the dat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65"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s probability level set?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results clearly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tables and figures easy to understand and are they organized?  Are they described in the text?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s the inductive logic used to produce results in the qualitative study explic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67" name="PlaceHolder 2"/>
          <p:cNvSpPr>
            <a:spLocks noGrp="1"/>
          </p:cNvSpPr>
          <p:nvPr>
            <p:ph/>
          </p:nvPr>
        </p:nvSpPr>
        <p:spPr>
          <a:xfrm>
            <a:off x="1218960" y="1905120"/>
            <a:ext cx="739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Conclusions &amp; Recommend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ach result discussed in terms of the original hypothesis or topi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ach result discussed in terms of how it related to existing theory and previous resear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69" name="PlaceHolder 2"/>
          <p:cNvSpPr>
            <a:spLocks noGrp="1"/>
          </p:cNvSpPr>
          <p:nvPr>
            <p:ph/>
          </p:nvPr>
        </p:nvSpPr>
        <p:spPr>
          <a:xfrm>
            <a:off x="1218960" y="1905120"/>
            <a:ext cx="739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Conclusions &amp; Recommend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generalizations consistent with resul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oretical and practical implications of the findings discuss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possible effects of uncontrolled variables discuss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71"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tract or summary</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blem sta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number and type of participants and instrument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design identifi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procedure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major results and conclusions stated?</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7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Research</a:t>
            </a:r>
            <a:endParaRPr b="0" lang="en-US" sz="32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questionnaire validation procedures describ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questionnaire pilot tested and if so, are the pilot test procedures adequately described? </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directions to questionnaire respondents clear?</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each item in the questionnaire address a single concept and relate to an objective of the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75" name="PlaceHolder 2"/>
          <p:cNvSpPr>
            <a:spLocks noGrp="1"/>
          </p:cNvSpPr>
          <p:nvPr>
            <p:ph/>
          </p:nvPr>
        </p:nvSpPr>
        <p:spPr>
          <a:xfrm>
            <a:off x="1219320" y="1905120"/>
            <a:ext cx="7315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cover letter explain the purpose and importance of the study, and does it give the potential respondent a good reason for cooperat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ppropriate, is confidentiality or anonymity of responses assured in the cover let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Research</a:t>
            </a:r>
            <a:endParaRPr b="0" lang="en-US" sz="32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at is the percentage of returns, and how does it affect the study results? If the response rate was low, was any attempt made to determine any major differences between respondents and nonrespondent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follow-up activities to increase returns described?</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data analyzed in groups or clusters rather than in a series of many single-variable analy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7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lational Research</a:t>
            </a:r>
            <a:endParaRPr b="0" lang="en-US" sz="32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 studie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variables carefully selected (i.e., was a shotgun approach avoid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rationale for variable selection describ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onclusions and recommendations based on values of correlation coefficients corrected for attenuation or restriction in range?</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the conclusions avoid suggesting causal relations among the variables investigated?</a:t>
            </a:r>
            <a:endParaRPr b="0" lang="en-US" sz="2400" spc="-1" strike="noStrike">
              <a:solidFill>
                <a:srgbClr val="000000"/>
              </a:solidFill>
              <a:latin typeface="Tahoma"/>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lational Research</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diction studi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 rationale given for selection of predictor vari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criterion variable well defined?</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resulting prediction equation validated with at least one other group?</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47" name="PlaceHolder 2"/>
          <p:cNvSpPr>
            <a:spLocks noGrp="1"/>
          </p:cNvSpPr>
          <p:nvPr>
            <p:ph/>
          </p:nvPr>
        </p:nvSpPr>
        <p:spPr>
          <a:xfrm>
            <a:off x="1295280" y="1676520"/>
            <a:ext cx="746784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a:t>
            </a:r>
            <a:endParaRPr b="0" lang="en-US" sz="32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re a statement of the problem? Does the problem indicate a particular focus of study?</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background information on the problem presented?</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cessary, are variables directly or operationally defined?</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problem statement indicate the variables of interest and the specific relations among the variables that were investig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3"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usal-Comparative Research</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characteristics or experiences that differentiate the groups (i.e., the grouping variable) clearly defined or describ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ritical extraneous variables identifi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any control procedures applied to equate the groups on extraneous variable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ausal relations discussed with due cautio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plausible alternative hypotheses discuss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imental Research</a:t>
            </a:r>
            <a:endParaRPr b="0" lang="en-US" sz="32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an appropriate experimental design select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 rationale for design selection give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reats to validity associated with the design identified and discuss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method of group formation describ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experimental group formed in the same way as the control group?</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groups randomly formed and the use of existing groups avoid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7" name="PlaceHolder 2"/>
          <p:cNvSpPr>
            <a:spLocks noGrp="1"/>
          </p:cNvSpPr>
          <p:nvPr>
            <p:ph/>
          </p:nvPr>
        </p:nvSpPr>
        <p:spPr>
          <a:xfrm>
            <a:off x="1142640" y="1981080"/>
            <a:ext cx="70470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imental Research</a:t>
            </a:r>
            <a:endParaRPr b="0" lang="en-US" sz="32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treatments randomly assigned to group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critical extraneous variables identifi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any control procedures applied to equate groups on extraneous variable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possible reactive arrangements (e.g., the Hawthorne effect) controlled for?</a:t>
            </a:r>
            <a:endParaRPr b="0" lang="en-US" sz="24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results generalized to the appropriate group?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Subject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Are the data time constrain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Was a baseline established before moving into the intervention pha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Was condition or phase length sufficient to represent the behavior within the pha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s the design appropriate to the question under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91"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Subject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f a multiple baseline design was used, were conditions met to move across baselin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f a withdrawal design was used, are limitations to this design address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Did the researcher manipulate only one variable at a ti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s the study replic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give a general sense of the focus of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state a guiding hypothesis for the investig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application of the qualitative method described in detai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context of the qualitative study described in deta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purposive sampling procedure described and related to the study focu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each data collection strategy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researcher’s role stated (e.g., nonparticipant observer, participant observer, interviewer, et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research site and the researcher’s entry into it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97"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the data collection strategies used appropriately, given the purpose of the stud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strategies used to strengthen the validity and reliability of the data (e.g., triangulatio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description of how any unexpected ethical issues were handl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strategies used to minimize observer bias and observer effect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researcher’s reactions and notes differentiated from descriptive field not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data coding strategies described and examples of coded data give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inductive logic applied to the data to produce results stated in detai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onclusions supported by data (e.g., are direct quotations from participants used to illustrate poi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1"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 Studie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the interview procedures pilot tes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pilot study procedures and result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each item in the interview relate to a specific objective of the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en necessary, is a point of reference given for interview it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49" name="PlaceHolder 2"/>
          <p:cNvSpPr>
            <a:spLocks noGrp="1"/>
          </p:cNvSpPr>
          <p:nvPr>
            <p:ph/>
          </p:nvPr>
        </p:nvSpPr>
        <p:spPr>
          <a:xfrm>
            <a:off x="1143000" y="1828800"/>
            <a:ext cx="7391520" cy="41148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a:t>
            </a:r>
            <a:endParaRPr b="0" lang="en-US" sz="32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of related literature</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view comprehensive?</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view well-organized?  Does it flow?</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view more than a series of abstracts  or annotations?</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cited references relevant to the problem under investigation? Is the relevance of each reference explained?</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most of the sources primary? </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references cited completely and accurate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3"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 Studies</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leading questions avoided in the intervie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language and complexity of the questions appropriate for the participan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interview protocol indicate the type and amount of prompting and probing that was permitt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qualifications and special training of the interviewers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5"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 Studie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method used to record response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use the most reliable, unbiased method of recording responses that could have been us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specify how the responses to semi-structured and unstructured items were quantified and analyz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7"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rrative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provide a rationale for the use of narrative research to study the chosen phenomen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rationale for the choice of individual to study the chosen phenomen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9"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rrative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describe data collection methods and give particular attention to interview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describe appropriate strategies for analysis and interpretation (e.g., restory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thnographic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written account (i.e., the ethnography) capture the social, cultural, and economic themes that emerged from the study?</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spend a full cycle in the field studying the phenomen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3"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phenomenon under investigation appropriate for investigation using a case study research metho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rationale for the selection of the case (i.e., unit of analysi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provide a clear description of the ca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5"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an appropriate analysis of the case, or cross-site analysis, conducted?</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clear link between the data presented in the case study and the themes that are reported?</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7"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xed Methods Research</a:t>
            </a:r>
            <a:endParaRPr b="0" lang="en-US" sz="32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study use at least one quantitative and at least one qualitative data research metho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study investigate both quantitative and qualitative research quest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 rationale for using a mixed methods research design provid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type of mixed methods research design st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xed Methods Research</a:t>
            </a:r>
            <a:endParaRPr b="0" lang="en-US" sz="32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priority given to quantitative and qualitative data collection and the sequence of their use describ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qualitative and quantitative data collection techniques clearly identifi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data analysis techniques appropriate for the type of mixed methods desig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study feasible given the amount of data to be collected and concomitant issues of resources, time, and experti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21" name="PlaceHolder 2"/>
          <p:cNvSpPr>
            <a:spLocks noGrp="1"/>
          </p:cNvSpPr>
          <p:nvPr>
            <p:ph/>
          </p:nvPr>
        </p:nvSpPr>
        <p:spPr>
          <a:xfrm>
            <a:off x="1219320" y="2133720"/>
            <a:ext cx="7238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area of focus involve teaching and learning in the researcher’s own practi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area of focus within the researcher’s locus of contro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area of focus something the researcher was passionate abou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pothes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specific research questions listed or specific hypotheses sta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ach hypothesis testa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each hypothesis state an expected relation or differe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ecessary, are variables directly or operationally def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2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area of focus something the researcher wanted to change or improve up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state questions that were answerable given the researcher’s expertise, time, and resourc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provide an action plan detailing the effect of the research findings on pract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25"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effectively deal with problems of history and maturation by documenting historical changes over tim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effectively deal with problems of mortality by using a sample large enough to minimize the effects of attritio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researcher in the field long enough to minimize observer effec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27"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take the time to become familiar and comfortable with participan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interview questions pilot tes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efforts made to ensure intra-observer agreement by training interview teams in coding procedu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29"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efforts made to cross-check results by conducting interviews with multiple group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interview key informants to verify field observa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participants demographically screened to ensure that they were representative of the larger popul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1"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data collected using different media (e.g., audiotape, videotape, etc.) to facilitate cross-validatio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participants allowed to evaluate research results before publicatio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sufficient data presented to support findings and conclusion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variables repeatedly tested to validate resul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3"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ex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constructs defined in a way that has meaning outside the setting of the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both new and adapted instruments pilot tested to ensure that they were appropriate for the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5"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external validity</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fully describe participants’ relevant characteristics, such as socioeconomic structure, gender makeup, level of urbanization and/or acculturation, and pertinent social and cultural histor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researcher interaction effects addressed by fully documenting the researcher’s activities in the sett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7"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ex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all observations and interviews conducted in a variety of fully described settings and with multiple trained observ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9"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ility</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researcher’s relationship with the group and setting fully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ll field documentation comprehensive, fully cross-referenced and annotated, and rigorously detail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observations and interviews documented using multiple means (e.g., written notes and recording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41" name="PlaceHolder 2"/>
          <p:cNvSpPr>
            <a:spLocks noGrp="1"/>
          </p:cNvSpPr>
          <p:nvPr>
            <p:ph/>
          </p:nvPr>
        </p:nvSpPr>
        <p:spPr>
          <a:xfrm>
            <a:off x="1143000" y="1981080"/>
            <a:ext cx="7238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il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interviewer’s training documented, and is it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construction, planning, and testing of all instruments documented, and are they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nt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size and major characteristics of the population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sample of adequate size for the study that was conduct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accessible and target populations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sampling method clearly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re appear to be any sampling bi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43" name="PlaceHolder 2"/>
          <p:cNvSpPr>
            <a:spLocks noGrp="1"/>
          </p:cNvSpPr>
          <p:nvPr>
            <p:ph/>
          </p:nvPr>
        </p:nvSpPr>
        <p:spPr>
          <a:xfrm>
            <a:off x="11430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il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key informants fully described, and is information on groups they represent and their community status includ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sampling techniques fully documented and sufficient for the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men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nstruments and their administration comply with IRB standards?  Were permissions obtained?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instruments appropriate for measuring the intended vari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rationale provided for the selection of the instruments us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ments</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instruments and any sub-scales fully described?</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strument was developed, are procedures that establish reliability and validity shared?</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researcher have the needed skills or experience to construct or administer the instru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and Procedure</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design and procedures appropriate for examining the research question or testing the hypotheses of the stud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the instruments and procedures applied correctl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the procedures logically relate to one anoth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61"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and Procedur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pilot study was conducted, is it clearly explain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control procedure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researcher discuss and account for confounding variables that were not controll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9T14:13:08Z</dcterms:modified>
  <cp:revision>116</cp:revision>
  <dc:subject/>
  <dc:title>AutoCAD Architecture 2008: Part I: Getting Started</dc:title>
</cp:coreProperties>
</file>